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B1B34-26F9-4C1A-8DB8-C47175691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3E935-E5A8-462D-967F-0A8DAC562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D4FB3-0666-49A6-BAB9-A8F873868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C1D5F-8652-4219-9A7A-3150F7225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9F59E-D1BD-4C2C-8E3B-E08DACBBE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1D528-DDF3-4586-8E3A-CAD7B16D1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459E0-0B00-476E-B8E6-482ADE078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66E8C-DE4C-4F2F-9954-3BA1F2648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8A5CE-1E7B-4CF2-98EE-E2EB274A5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A377D-18C6-43BA-AC66-2768B7F49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A2768-8B41-454A-A51E-690BECF34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40189-A25A-4BB2-9864-800A66EB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EA10-351A-4EA0-8573-B593BCD7B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EF5C0-EBA7-4172-BBC3-7770EFD37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A58A1-8917-4E70-9A9B-9DBCBD420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431A2-FBB8-4CBE-8704-321AC1C4D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F528B-BC7D-4762-945B-812466A70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B6E2-2F41-4C69-8AF9-EC647DC43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C8D5-2709-4D51-8C81-D294672BE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89C82-B57B-4869-8C4D-C462F3436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329FC-E8E4-4398-A26F-C2495722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2BC3-6F57-47A6-B8EF-3249A890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327DE-617D-4ECF-A74D-73E721012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05A1-6567-47AC-B6B8-C032BB889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A63B-AD4D-456D-A2CB-0FBC0AC0A72C}" type="slidenum">
              <a:rPr b="0" lang="zh-TW"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4E6D-CD64-4D9C-9068-38A2372BF727}" type="slidenum">
              <a:rPr b="0" lang="zh-TW"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ir Pressure</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Q Team C0112425 200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hotos I</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aneroid barometer </a:t>
            </a:r>
            <a:endParaRPr b="0" lang="en-US" sz="3200" spc="-1" strike="noStrike">
              <a:solidFill>
                <a:srgbClr val="ffffcc"/>
              </a:solidFill>
              <a:latin typeface="Times New Roman"/>
            </a:endParaRPr>
          </a:p>
        </p:txBody>
      </p:sp>
      <p:pic>
        <p:nvPicPr>
          <p:cNvPr id="120" name="aneroid" descr=""/>
          <p:cNvPicPr/>
          <p:nvPr/>
        </p:nvPicPr>
        <p:blipFill>
          <a:blip r:embed="rId1"/>
          <a:stretch/>
        </p:blipFill>
        <p:spPr>
          <a:xfrm>
            <a:off x="3124080" y="3048120"/>
            <a:ext cx="3175200" cy="218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hotos II</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barograph</a:t>
            </a:r>
            <a:endParaRPr b="0" lang="en-US" sz="3200" spc="-1" strike="noStrike">
              <a:solidFill>
                <a:srgbClr val="ffffcc"/>
              </a:solidFill>
              <a:latin typeface="Times New Roman"/>
            </a:endParaRPr>
          </a:p>
        </p:txBody>
      </p:sp>
      <p:pic>
        <p:nvPicPr>
          <p:cNvPr id="123" name="barigraph" descr=""/>
          <p:cNvPicPr/>
          <p:nvPr/>
        </p:nvPicPr>
        <p:blipFill>
          <a:blip r:embed="rId1"/>
          <a:stretch/>
        </p:blipFill>
        <p:spPr>
          <a:xfrm>
            <a:off x="3124080" y="3200400"/>
            <a:ext cx="3175200" cy="218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r>
              <a:rPr b="0" lang="en-US" sz="4400" spc="-1" strike="noStrike">
                <a:solidFill>
                  <a:srgbClr val="ffcc00"/>
                </a:solidFill>
                <a:latin typeface="Times New Roman"/>
              </a:rPr>
              <a:t>~ End ~</a:t>
            </a:r>
            <a:endParaRPr b="0" lang="en-US" sz="4400" spc="-1" strike="noStrike">
              <a:solidFill>
                <a:srgbClr val="ffcc00"/>
              </a:solidFill>
              <a:latin typeface="Times New Roman"/>
            </a:endParaRPr>
          </a:p>
        </p:txBody>
      </p:sp>
      <p:sp>
        <p:nvSpPr>
          <p:cNvPr id="125"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Q Team C0112425 2001</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library.thinkquest.org/C0112425</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n you feel air pressure?</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take off or land in an aircraft, your ears may hurt or feel uncomfortable. This is because your eardrums can feel changes in air pressure as the aircraft moves quickly up and dow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what is air pressure?</a:t>
            </a:r>
            <a:endParaRPr b="0" lang="en-US" sz="3200" spc="-1" strike="noStrike">
              <a:solidFill>
                <a:srgbClr val="ffffcc"/>
              </a:solidFill>
              <a:latin typeface="Times New Roman"/>
            </a:endParaRPr>
          </a:p>
        </p:txBody>
      </p:sp>
      <p:graphicFrame>
        <p:nvGraphicFramePr>
          <p:cNvPr id="102" name=""/>
          <p:cNvGraphicFramePr/>
          <p:nvPr/>
        </p:nvGraphicFramePr>
        <p:xfrm>
          <a:off x="990720" y="4572000"/>
          <a:ext cx="1412640" cy="1905120"/>
        </p:xfrm>
        <a:graphic>
          <a:graphicData uri="http://schemas.openxmlformats.org/presentationml/2006/ole">
            <p:oleObj r:id="rId1" spid="">
              <p:embed/>
              <p:pic>
                <p:nvPicPr>
                  <p:cNvPr id="103" name="" descr=""/>
                  <p:cNvPicPr/>
                  <p:nvPr/>
                </p:nvPicPr>
                <p:blipFill>
                  <a:blip r:embed="rId2"/>
                  <a:stretch/>
                </p:blipFill>
                <p:spPr>
                  <a:xfrm>
                    <a:off x="990720" y="4572000"/>
                    <a:ext cx="14126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Air Pressure?</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caused by the weight of all the air in the atmosphere pressing down on Eart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also known as atmospheric press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ir pressure changes with the height and also when air warms up or cools dow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nges in air pressure cause changes in the weathe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fferences in air pressure</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w Press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air rises, it leaves behind an area of lower pressure, because the upward- moving air is not pressing down so hard on the surf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560" y="838080"/>
            <a:ext cx="4343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Press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eas of high pressure are formed where air is sinking back down, and so pushing down harder.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t;&gt; see the diagram</a:t>
            </a:r>
            <a:endParaRPr b="0" lang="en-US" sz="3200" spc="-1" strike="noStrike">
              <a:solidFill>
                <a:srgbClr val="ffffcc"/>
              </a:solidFill>
              <a:latin typeface="Times New Roman"/>
            </a:endParaRPr>
          </a:p>
        </p:txBody>
      </p:sp>
      <p:pic>
        <p:nvPicPr>
          <p:cNvPr id="109" name="airp" descr=""/>
          <p:cNvPicPr/>
          <p:nvPr/>
        </p:nvPicPr>
        <p:blipFill>
          <a:blip r:embed="rId1"/>
          <a:stretch/>
        </p:blipFill>
        <p:spPr>
          <a:xfrm>
            <a:off x="4876920" y="762120"/>
            <a:ext cx="40114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838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ce there are many areas of high and low pressure above the Earth’s surface due to uneven surface heating.</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ir moves from high pressure to low pressure forming wind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a result, the greater the difference between the high pressure and low pressure areas is, the higher the wind speed 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ighs and Low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510552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sure is different all over the world.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ws are areas of low pressure with the lowest pressure at the center.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ws usually bring wet, cloudy weather.</a:t>
            </a:r>
            <a:endParaRPr b="0" lang="en-US" sz="3200" spc="-1" strike="noStrike">
              <a:solidFill>
                <a:srgbClr val="ffffcc"/>
              </a:solidFill>
              <a:latin typeface="Times New Roman"/>
            </a:endParaRPr>
          </a:p>
        </p:txBody>
      </p:sp>
      <p:pic>
        <p:nvPicPr>
          <p:cNvPr id="113" name="low" descr=""/>
          <p:cNvPicPr/>
          <p:nvPr/>
        </p:nvPicPr>
        <p:blipFill>
          <a:blip r:embed="rId1"/>
          <a:stretch/>
        </p:blipFill>
        <p:spPr>
          <a:xfrm>
            <a:off x="5867280" y="2057400"/>
            <a:ext cx="2667240" cy="263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s are areas of high pressure with the highest pressure at the center.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s bring sunnier, and dry weathe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way these move from day to day causes the changes in the weather. </a:t>
            </a:r>
            <a:endParaRPr b="0" lang="en-US" sz="3200" spc="-1" strike="noStrike">
              <a:solidFill>
                <a:srgbClr val="ffffcc"/>
              </a:solidFill>
              <a:latin typeface="Times New Roman"/>
            </a:endParaRPr>
          </a:p>
        </p:txBody>
      </p:sp>
      <p:pic>
        <p:nvPicPr>
          <p:cNvPr id="115" name="high" descr=""/>
          <p:cNvPicPr/>
          <p:nvPr/>
        </p:nvPicPr>
        <p:blipFill>
          <a:blip r:embed="rId1"/>
          <a:stretch/>
        </p:blipFill>
        <p:spPr>
          <a:xfrm>
            <a:off x="3505320" y="3657600"/>
            <a:ext cx="274320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asuring Air Pressur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ir Pressure is measured in millibars (mb) on a barometer.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simplest kind of barometer is a mercury barometer and pressure is measured in  mm (in) of mercury.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aneriod  barometer can measure move conveniently.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barograph is a special kind of barometer, which records continuous changes in air pressur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7:08:16Z</dcterms:created>
  <dc:creator>Simon Li</dc:creator>
  <dc:description/>
  <dc:language>en-US</dc:language>
  <cp:lastModifiedBy>Simon Li</cp:lastModifiedBy>
  <dcterms:modified xsi:type="dcterms:W3CDTF">2001-09-07T17:28:38Z</dcterms:modified>
  <cp:revision>1</cp:revision>
  <dc:subject/>
  <dc:title>Air Pressure</dc:title>
</cp:coreProperties>
</file>